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578-653F-4339-9EE0-D54B774B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E33-DDAB-469A-81F4-551FD869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E93-33ED-4A53-AFD3-D366754E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B6A-66B9-452C-9B51-FE2D199C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ED79-2858-4DF1-AA0C-3833BA98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4173-F4F8-4C3C-B1ED-5E31538D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DD37-FCF5-40AC-96B5-6556B62D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2C66-CA75-46DD-B2B6-309E1767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D712-C808-4EAC-898C-A8759639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C189-CB90-4B08-81F2-0966E6C6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8F33-25B4-4D32-9D8E-DFE11E4A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056-5A03-40AA-A786-FA5E152D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A0D8-FA01-4B38-AAA8-9531C547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AFF3-D6A0-47CE-BF90-24DB41F0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2656-3FEA-4C67-859D-AFB82DC0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4030-CDD4-48FA-B646-51967907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14CD-0E8B-42B4-83C3-C05A0CC1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B49-14F2-4143-B821-642DE6A4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03B-FA45-4B17-AD44-D97FCFB0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CA8-B5C7-47E2-8E51-213D1030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9EF-8BA8-4F33-A3C5-68CFE681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A4C-B4ED-4505-B87D-5DFC896C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520-967E-4025-8741-BD8C071D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458-7506-452F-A38C-56612A93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7c849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CED8-8C45-4E59-9352-57B4CD077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7c8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5DF1-D44B-454A-8FF4-CA8B1352D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c849e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it-IT" sz="2400" spc="-1" strike="noStrike">
                <a:solidFill>
                  <a:srgbClr val="cd0505"/>
                </a:solidFill>
                <a:latin typeface="Calibri"/>
              </a:rPr>
              <a:t>Campagna di Comunicazione per l’Educazione Stradale</a:t>
            </a:r>
            <a:br>
              <a:rPr sz="2400"/>
            </a:br>
            <a:endParaRPr b="0" i="1" lang="en-US" sz="24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92360" y="4292640"/>
            <a:ext cx="541008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27920" y="2421000"/>
            <a:ext cx="367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alibri"/>
              </a:rPr>
              <a:t>Ministero della Pubblica Istruzione e M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emblema_min" descr=""/>
          <p:cNvPicPr/>
          <p:nvPr/>
        </p:nvPicPr>
        <p:blipFill>
          <a:blip r:embed="rId1"/>
          <a:stretch/>
        </p:blipFill>
        <p:spPr>
          <a:xfrm>
            <a:off x="3203640" y="3573360"/>
            <a:ext cx="571320" cy="638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63640" y="4365720"/>
            <a:ext cx="3456000" cy="428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012000" y="4149720"/>
            <a:ext cx="8650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d0505"/>
                </a:solidFill>
                <a:latin typeface="Calibri"/>
              </a:rPr>
              <a:t>Il sito web dedicato</a:t>
            </a:r>
            <a:endParaRPr b="0" lang="en-US" sz="24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TV propone la realizzazione  di un minisito dedicato, all’interno del sito mtv.it, composto da più sezioni dettagliate di seguito, nonché la realizzazione  di un’area di supporto, all’interno del sito wap.mtv.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arte centrale del minisito è la sezione dedicata ai quiz sull’educazione stradale, attraverso la quale sarà possibile accedere al casting online per la partecipazione al program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mpio spazio sarà dedicato poi alle informazioni in materia di sicurezza strad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5335" r="3662" b="4100"/>
          <a:stretch/>
        </p:blipFill>
        <p:spPr>
          <a:xfrm>
            <a:off x="7020000" y="5157720"/>
            <a:ext cx="1728720" cy="13892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0" t="6684" r="3127" b="2756"/>
          <a:stretch/>
        </p:blipFill>
        <p:spPr>
          <a:xfrm>
            <a:off x="4067280" y="5157720"/>
            <a:ext cx="1942920" cy="13622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0" t="4927" r="1447" b="3514"/>
          <a:stretch/>
        </p:blipFill>
        <p:spPr>
          <a:xfrm>
            <a:off x="5724360" y="4869000"/>
            <a:ext cx="1870200" cy="1428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B11-9CAF-4340-BD52-298C23D263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cd0505"/>
                </a:solidFill>
                <a:latin typeface="Calibri"/>
              </a:rPr>
              <a:t>Il Progetto</a:t>
            </a:r>
            <a:br>
              <a:rPr sz="2800"/>
            </a:br>
            <a:endParaRPr b="0" lang="en-US" sz="2800" spc="-1" strike="noStrike">
              <a:solidFill>
                <a:srgbClr val="cd0505"/>
              </a:solidFill>
              <a:latin typeface="Arial Black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58880" y="1863720"/>
            <a:ext cx="7631280" cy="4031640"/>
            <a:chOff x="758880" y="1863720"/>
            <a:chExt cx="7631280" cy="4031640"/>
          </a:xfrm>
        </p:grpSpPr>
        <p:cxnSp>
          <p:nvCxnSpPr>
            <p:cNvPr id="96" name="_s41998"/>
            <p:cNvCxnSpPr>
              <a:stCxn id="97" idx="1"/>
              <a:endCxn id="98" idx="2"/>
            </p:cNvCxnSpPr>
            <p:nvPr/>
          </p:nvCxnSpPr>
          <p:spPr>
            <a:xfrm rot="10800000">
              <a:off x="3047400" y="2595960"/>
              <a:ext cx="763560" cy="2932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41997"/>
            <p:cNvCxnSpPr>
              <a:stCxn id="100" idx="1"/>
              <a:endCxn id="98" idx="2"/>
            </p:cNvCxnSpPr>
            <p:nvPr/>
          </p:nvCxnSpPr>
          <p:spPr>
            <a:xfrm rot="10800000">
              <a:off x="3047400" y="2595960"/>
              <a:ext cx="763560" cy="183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41996"/>
            <p:cNvCxnSpPr>
              <a:stCxn id="102" idx="1"/>
              <a:endCxn id="98" idx="2"/>
            </p:cNvCxnSpPr>
            <p:nvPr/>
          </p:nvCxnSpPr>
          <p:spPr>
            <a:xfrm rot="10800000">
              <a:off x="3047400" y="2595960"/>
              <a:ext cx="763560" cy="73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41992"/>
            <p:cNvSpPr/>
            <p:nvPr/>
          </p:nvSpPr>
          <p:spPr>
            <a:xfrm>
              <a:off x="758880" y="1863720"/>
              <a:ext cx="4578840" cy="732960"/>
            </a:xfrm>
            <a:prstGeom prst="roundRect">
              <a:avLst>
                <a:gd name="adj" fmla="val 16667"/>
              </a:avLst>
            </a:prstGeom>
            <a:solidFill>
              <a:srgbClr val="d2d5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alibri"/>
                </a:rPr>
                <a:t>Le attività del proget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41993"/>
            <p:cNvSpPr/>
            <p:nvPr/>
          </p:nvSpPr>
          <p:spPr>
            <a:xfrm>
              <a:off x="3811320" y="2963160"/>
              <a:ext cx="4578840" cy="732960"/>
            </a:xfrm>
            <a:prstGeom prst="roundRect">
              <a:avLst>
                <a:gd name="adj" fmla="val 16667"/>
              </a:avLst>
            </a:prstGeom>
            <a:solidFill>
              <a:srgbClr val="d2d5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alibri"/>
                </a:rPr>
                <a:t>La campagna di comunicazi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41994"/>
            <p:cNvSpPr/>
            <p:nvPr/>
          </p:nvSpPr>
          <p:spPr>
            <a:xfrm>
              <a:off x="3811320" y="4062960"/>
              <a:ext cx="4578840" cy="732960"/>
            </a:xfrm>
            <a:prstGeom prst="roundRect">
              <a:avLst>
                <a:gd name="adj" fmla="val 16667"/>
              </a:avLst>
            </a:prstGeom>
            <a:solidFill>
              <a:srgbClr val="d2d5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alibri"/>
                </a:rPr>
                <a:t>Il format “Best Driver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41995"/>
            <p:cNvSpPr/>
            <p:nvPr/>
          </p:nvSpPr>
          <p:spPr>
            <a:xfrm>
              <a:off x="3811320" y="5162400"/>
              <a:ext cx="4578840" cy="732960"/>
            </a:xfrm>
            <a:prstGeom prst="roundRect">
              <a:avLst>
                <a:gd name="adj" fmla="val 16667"/>
              </a:avLst>
            </a:prstGeom>
            <a:solidFill>
              <a:srgbClr val="d2d5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alibri"/>
                </a:rPr>
                <a:t>Il sito web dedic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1113120" y="3499920"/>
              <a:ext cx="1372320" cy="16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45E-2557-4905-84CB-B4229FB5EA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d0505"/>
                </a:solidFill>
                <a:latin typeface="Calibri"/>
              </a:rPr>
              <a:t>2.2 Il Target</a:t>
            </a:r>
            <a:endParaRPr b="0" lang="en-US" sz="24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207600" y="321300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tv : il canale più diffuso al m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2125800"/>
            <a:ext cx="813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l progetto ha la finalità di sensibilizzare i ragazzi delle scuole, di età compresa tra i 14 e i 19 anni,  relativamente ai loro comportamenti alla guida, sia delle automobili che dei motocicli, con una particolare attenzione ai loro atteggiamenti rispetto alle regole del codice della strada e alle  eventuali conseguenze derivanti dall’utilizzo di droghe e alcool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03480" y="37782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8400" y="4138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63840" y="4354560"/>
            <a:ext cx="408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69C-9EA2-4891-A23F-E373DE51E4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d0505"/>
                </a:solidFill>
                <a:latin typeface="Calibri"/>
              </a:rPr>
              <a:t>La campagna di comunicazione: la proposta creativa</a:t>
            </a:r>
            <a:endParaRPr b="0" lang="en-US" sz="24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’idea è di invitare i ragazzi a ragionare e aprire la mente su comportamenti a rischio con una comunicazione che ci piace definire orizzontale. Senza divieti e senza terrorizza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a proposta parte da eventi territoriali che coinvolgerebbero i ragazzi in modo diretto, stimolando una condivisione partecipata di questa riflessi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a tali eventi territoriali discenderà una serie di 5 (cinque) promo editoriali che declineranno la campagna andando ad evidenziare le informazioni più significative nell'ambito della guida sicura per i ragazz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4D5-E38D-40A4-A9B3-7BE84D074A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d0505"/>
                </a:solidFill>
                <a:latin typeface="Calibri"/>
              </a:rPr>
              <a:t>Il format : “BEST DRIVER”</a:t>
            </a:r>
            <a:endParaRPr b="0" lang="en-US" sz="24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format televisivo in 20 puntate (15 + 5 best of) di 24 minuti in onda il sabato pomeriggio, anticipate da 5 pillole della durata di 3 minuti circa, trasmesse dal lunedì al venerd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19640" y="1916280"/>
            <a:ext cx="2016000" cy="212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F8B-ADD4-4EAF-A1F0-0D33F6DA67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Il progetto si struttura in 3 ste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TEP 1: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Un ‘esame’ aperto a tutti da sostenere, divertendosi, sul sito web di MTV dedicato all’operazione. Sostenere efficacemente l’esame dà la possibilità concreta di finire in tv da protagonisti, come concorrenti di un game a premi sull’educazione strada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TEP 2: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al lunedì al venerdì: una pillola da 3 minuti circa al giorno. Oggetto di ogni pillola sono candid camera sull’educazione stradale realizzate in due regioni italiane messe a confronto (N.B. Il focus è sulle due regioni da cui provengono i due concorrenti estratti dal web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TEP 3: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Il sabato: una puntata di 24 minuti circa, in cui i due concorrenti, con il ‘sostegno’ ricevuto dalle rispettive regioni, si contendono la vittoria fina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AE8-6B29-4634-B2CB-C50A6AD470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d0505"/>
                </a:solidFill>
                <a:latin typeface="Calibri"/>
              </a:rPr>
              <a:t> </a:t>
            </a:r>
            <a:r>
              <a:rPr b="1" i="1" lang="it-IT" sz="2400" spc="-1" strike="noStrike">
                <a:solidFill>
                  <a:srgbClr val="cd0505"/>
                </a:solidFill>
                <a:latin typeface="Calibri"/>
              </a:rPr>
              <a:t>2.7 Tempistiche del programma televisivo</a:t>
            </a:r>
            <a:endParaRPr b="0" lang="en-US" sz="24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-LUNEDI’ 24 MARZO: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inizio della messa in onda di un PROMO DI LANCIO del format televisiv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- da LUNEDI’ 7 APRILE a VENERDI’ 25 APRILE COMPRESO: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ogrammazione giornaliera di una serie di  “pillole” con funzione di “teasing”.  In questa fase le pillole consistono in brevi interviste (VOX POP) realizzate con i ragazzi nelle scuo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-da LUNEDI’ 28 APRI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Partenza del programma televisivo, con la messa in onda (da lunedì a venerdì ) della prima serie di 5 “pillole” da 3 minuti che precedono la trasmissione della prima puntata in studio da 24 minuti, prevista per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ABATO 3 MAGGI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messa in onda del programma prevede il seguente schema: 3 puntate in premiere seguite da un Best of, costruito con i momenti migliori delle puntate andate in onda + momenti inedit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programmazione coprirà il periodo dal 3 maggio al 21 giugno (8 puntate – 6 premiere + 2 best of ) con pausa nel periodo estivo e ripresa della tx il 13 settembre, fino alla messa in onda dell’ultima puntata sabato 29 novemb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961-7122-4E9E-B68E-B847843FC7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d0505"/>
                </a:solidFill>
                <a:latin typeface="Calibri"/>
              </a:rPr>
              <a:t>2.8 La conduzione e gli ospiti</a:t>
            </a:r>
            <a:endParaRPr b="0" lang="en-US" sz="24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conduzione del programma verrà affidata a Marco Maccarini, volto storico della re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otranno essere coinvolti anche artisti musicali fra i più conosciuti nel mondo dei ragazzi, come  Finley, Gemelli Diversi, Zero Assoluto, Irene Grandi, Paola e Chiara, Tiziano Fer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1E0-2DC2-42B3-A105-657D23E584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d0505"/>
                </a:solidFill>
                <a:latin typeface="Calibri"/>
              </a:rPr>
              <a:t>2.9 Il posizionamento in palinsesto</a:t>
            </a:r>
            <a:r>
              <a:rPr b="0" lang="it-IT" sz="3300" spc="-1" strike="noStrike">
                <a:solidFill>
                  <a:srgbClr val="cd0505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fascia di programmazione dedicata al format sulla sicurezza stradale, per la puntata del sabato, è quella del primo pomeriggio, tra le 15.30 e le 16.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e pillole settimanali verrebbero programmate dal lunedì al venerdì in fascia 16.00-1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’ possibile prevedere una replicabilità delle pun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5D7-C559-45C6-824E-BB325D8E75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2:18:38Z</dcterms:created>
  <dc:creator>lezzab</dc:creator>
  <dc:description/>
  <dc:language>en-US</dc:language>
  <cp:lastModifiedBy>M.I.U.R.</cp:lastModifiedBy>
  <dcterms:modified xsi:type="dcterms:W3CDTF">2008-03-28T17:55:34Z</dcterms:modified>
  <cp:revision>84</cp:revision>
  <dc:subject/>
  <dc:title>Slide 1</dc:title>
</cp:coreProperties>
</file>